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C87-B7F5-4C71-A336-ADEDE4AA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820-4FA7-4923-97CB-96F5FC6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D7D-64BA-4C21-ABC4-FA331903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670-2832-4991-B806-D90B2729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CF722-24B6-4D2D-8EE2-FB32263D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BA623-4597-4F0B-971B-F6982A9D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ECC5-8835-4491-B887-0E222EC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44350-05AA-49D7-989E-5807B69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B41DC-E577-4B05-A339-BA5BDCD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0DBB8-7D5D-47F5-95E6-7879B82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12A00-3335-4051-81C7-5DD5746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636-E0A9-4EB4-8ED8-33D8DC25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9E12E-A129-4214-8A83-107885F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BFF3-E25D-4AB3-A990-ECDD588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283E8-DC7C-4969-8D0F-D18BDB6D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AB3BD-9732-4904-88BB-7BBFBCFE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0DA71-AA1E-4644-943C-18476139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A18-0269-4E57-A72A-F7201B9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BAA-89EC-4055-BB33-AD1F9F52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126-B495-4522-B357-CE30A0C6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EC3-DBBE-4855-B941-7E3FF6A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A7E-7567-4D65-802F-EA28BA8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05E-5CAF-4546-9636-5B2C59A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88E-72E2-4DC3-99D8-212554A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AD3-8F77-42EA-852A-ED931866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3E9-22B9-4E9C-A64A-559073EEB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752480" y="2819520"/>
            <a:ext cx="548640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ssion 6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ess, Health, and Goal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es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ental or physical tension or press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lationshi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1981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- Consider alternati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- Others’ suppo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- Problem solv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- Esteem build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99840" y="137160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C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sider alternatives – Deal with feel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s’ support- Help each o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blem solving- Pl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em building- Accept yoursel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880" y="609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ONSHIP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OR JOB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TING THING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/PROCRASTIN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ST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ESS FROM DIMINS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of Lif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ving as close to fulfilling one’s dreams and goals as possi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6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7:11Z</dcterms:modified>
  <cp:revision>18</cp:revision>
  <dc:subject/>
  <dc:title>Project TND  (Project Towards No Drug Abuse)</dc:title>
</cp:coreProperties>
</file>